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CEC-5893-4F24-AC4D-B25A473F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FAF-A811-4C1E-9E15-CCA4D4F8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721F-3C14-4DA5-AE19-406A8AF3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7769-43EA-439F-9F98-5ED238CC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4521-CA86-49B2-9D34-E74125A3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7390-70ED-4C3A-859F-ADA87ECD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C42-1B3F-45F4-AF84-970CCAA6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30E-6450-4A3E-9CF0-35BE968E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286-D62D-46E6-8768-4E00EAEE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80B-C31F-473D-919A-038627CB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F2F-5CE3-4F9E-B210-2E337C1A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0A98-400B-48EE-93B0-88D639C3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E13F-4FB8-41A1-92D8-598ECDC12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Restri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54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715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71500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52480" y="3429000"/>
            <a:ext cx="571500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52480" y="4343400"/>
            <a:ext cx="5715000" cy="137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38280" y="3276720"/>
            <a:ext cx="10670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553440" cy="99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14600" y="1828800"/>
            <a:ext cx="4343400" cy="2819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295280" y="4648320"/>
            <a:ext cx="655344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295280" y="1752480"/>
            <a:ext cx="1219320" cy="289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858000" y="1828800"/>
            <a:ext cx="990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39116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73911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315200" cy="373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73152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086600" cy="838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086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08660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0866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934320" cy="1067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953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8:05:10Z</dcterms:modified>
  <cp:revision>44</cp:revision>
  <dc:subject/>
  <dc:title>PowerPoint Presentation</dc:title>
</cp:coreProperties>
</file>